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EEE-E3E7-4D62-A527-8A354607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9F6-A0D2-4516-9E04-3AFB2512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1D8D3-FF22-46DE-8FE7-1BEC0739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5BF91-603B-4412-A805-BB6D7E0F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8D51F-5CDD-481B-840D-C6D7910A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720D9-5483-438D-9F4F-987016B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DB6C5-F968-4C1C-8128-D62E61AA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7D679-5386-4626-B59A-6E071371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E47A1-568B-484B-AFA7-926A2FB0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16FF6-3A74-4BD9-A0AF-168FE421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57252-E79B-4112-8917-4DC21A55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8E32C-2AB3-4337-9391-BDD77514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B54-2BB1-4637-A281-24E108D4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7E29A-4A2D-4488-9F54-11267589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B19CA-2996-4AB9-96FC-04D5DEE1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39825-B79C-4E10-BB7D-394610D5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52C88-E451-4310-B28B-138B9E69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6BA2F-0BAF-48A4-BAD0-29106AE9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95F5C-0BB0-4D44-83B6-FF63FA1B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2D376-19B0-46E9-9FEF-033CC1E4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1602F-C08C-4782-9938-1208EF12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8E44B-9740-45FB-A88B-A9203092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F7E63-45AA-4DB5-A310-FEA9CF5E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687-6960-4A16-AD69-F758562C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7F7F5-26DB-4C9E-86C6-77368064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8019B-551C-411E-A8E9-0B91C2C1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7D7F4-5468-4B31-8CB0-F47D9406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E1516-6910-4CFF-8D80-354D9AA8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C57E8-8B1A-4C99-8D71-E8A6C9DF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9D34F-8707-4892-A18C-5E0D6627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8E061-EA72-4D57-B293-E588251F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B2E96-9567-4546-869B-84BA25E1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6F989-1C36-410F-8FB3-1B6D1E3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FB920-E21B-4388-91C9-99802F2C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BF0E-F230-45D9-B0E8-19847823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ABC76-0648-4AB2-BD8E-41632001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2510D-3C71-40C0-8F06-080468D2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5FC59-4EF1-40F7-961C-1E78BD8A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D0BD2-E1C7-4EDB-94C0-1E43AF04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8B6CF-236A-4876-9C1D-9AF4479C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B00E4-6A9F-4535-878F-66A42A95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FCD08-DD2B-43DB-AF8B-F227CA18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53171-8DCE-4631-B0A8-8E496A6E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4BAFD-211A-460A-B71F-C28B5B01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FE7D6-A611-465C-B946-9CDFBBC9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DC84-5707-415D-9F1F-C1B70837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63A7F-FE51-4753-8DCB-7C79F305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4EA60-A6FA-4B99-B93A-5D51B1F8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676C6-FC1D-4383-A211-C1623936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1B3AB-9C91-4319-A901-F397840D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1BDB7-9D50-43DD-BBC6-419DF981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1C6C7-DC0F-4DF4-A896-C18CEA69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33787-3CFF-431F-9F29-1B2B58EF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F2FF3-BBD4-4067-946B-B4C8C0A1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21EEB-8106-44B7-B438-81D41E57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BE04D-4DF3-49C7-B03C-0EC80FF4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14F9-9CDE-4CF5-BE8A-E66E4D9D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2CB61-2FCF-4A0A-9516-062DC896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6C2EB-5EBC-4E06-97D3-36CC7953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A37BE-9F48-444E-8DEE-E23F37AF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B29B7-3B19-447F-B562-29B8F3CE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422B3-7D7C-4E95-B7F7-3089EB0C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86056-A5D8-4D61-A73E-8F86A0F5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788B6B-55E5-457A-BB98-D09D939C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58061-4E36-450A-B9A0-FD9CF84B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D792C-C77D-4C03-9E14-0BBA159E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EADD2-D5E8-4449-8204-BBFB4BC1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C1E7-C224-42CC-BA67-80F5DC31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858F1-70A6-4C49-BA58-116B41A0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18032-ECDA-4AFB-9371-8A074D15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8B68A-1423-4B9E-BC21-B519EBAC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1D9A6-4B54-4D1B-AFCC-C8EC2645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4EF27-C235-460F-89AD-C0810115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7A2E1-7558-4FEF-911E-202DFBEF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C336B-799A-4CEE-A0CE-555FCD10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5DFD4-245B-4537-913B-CD22046D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D647AA-F082-4C6F-808B-85F88152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05D715-15F7-4D36-8C3B-CF0AF1D5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2F6E-FA13-462E-B57D-78BFDF42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9C069-8666-40A8-BA06-B2755BC2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CB580-95BE-4EC9-9DA8-BC659607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61686-104D-4172-87D3-F4E5566E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AED751-0D6E-454C-9E96-379AAE64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734910-7FAB-4705-BE01-07225C5C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7C260-D08D-4838-9E32-D1033E44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03FEE9-00C1-46A7-B1CC-3ACA8B1B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ACB86-EBA6-49EA-BF95-CA90A8F4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54745-285D-483C-AE66-0A21B85E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E2E63-8DBB-4285-96D6-ED4A94D1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FF36-B383-48A9-BEA0-F5300802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A6B49-C9E9-4D78-9A52-B685EDB9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066750-DFA2-45F4-AA5A-54C43F9E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5968D5-24FE-4550-8B1D-9E46D608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0219B-2B06-49C9-B31E-60AC7120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BC792-2EEA-464A-ADD3-73D647BE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20AB3-0E51-4631-A580-B5E58CA5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247173-6106-4328-9251-C12AA7D7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8ECAD-BF3B-4B19-A74F-B1337F05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C1C593-77C6-4838-9FA4-B014AE09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3C638-9FA8-4894-99B2-A26DDAF3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4541-432C-4265-9F91-0264DB2D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65C787-0776-40FA-98E4-F053395D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73F868-D5DA-45C2-9076-BC3DF1FE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B7D6F-907E-4DF5-B770-95DEB27D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BD49B-9F90-467C-98C3-976D85E6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277505-96A0-4882-AF8B-F8EE048E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12A44-11A0-4DCE-9F80-DA34FF5E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456EC7-C657-4D41-B836-203EC081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60131E-A9F7-4C72-A0B1-6831E77C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CE6547-5876-4294-83CE-79969EE7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96985F-528C-4C2C-9B46-D3F7D55F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2EA-41F2-4DF0-9B0C-172E31E8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AB67-E891-4653-B39E-01675D80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0461E-8450-4F94-8E53-FF83CE0B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6816F2-E18E-4460-824E-04C311DE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A4EDE3-D90F-4040-90B3-F0B7A52D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D0A00-990B-4492-A3B7-04A16D22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63472-4DBA-4BAF-A6E2-A7D9823D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24232-0AD1-4DDE-A5A3-AB9A1B2E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3A380E-786F-40BF-BB28-92A7A60B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FB6B6F-B44A-4F08-90D8-DC5642F5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1B3CD-1585-458A-A603-1E438BF3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5939B1-80C9-47EC-84BE-FD78A8AC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E369-99D2-47C0-BE2B-9EAAD61E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AD020-5D93-4E01-A3F2-CAA06CD2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AA330-B8EC-487B-A2A5-E31779BE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527D50-94CC-4D1D-A91D-C5BD0058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5B887-3064-45AA-A8EA-59C33BFF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BAE89-691B-4ED9-9566-3230E2F8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C2CD34-599A-43E8-98C3-F4E53E9C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87ACD-4D7E-47BB-8310-EA8D8703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FEC16-A3EB-43EC-9EEE-070AB7F8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510CB-D788-4D6E-A23A-234E72D6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27840-0525-40EB-AC6B-EEEB8F48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0996-D309-4E3F-A711-6A4729FC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E80912-41B2-45CD-B88B-1D0CD264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E4598-1C29-4C17-A52E-7393E012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EC8D9D-EC1D-4152-9722-3DF83B4C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3B008A-C134-49BA-990B-7152EF90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6D8B1-C142-42CE-9FC1-9915F48B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642595-DB2A-4958-8ED0-6E561AFE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37B9B6-6004-445E-8B5D-CEBF26ED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0C35AA-6D38-4B86-B1A0-57CE33CB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E6600F-5183-4033-87D3-04C6C751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2FA942-1351-4569-90A2-6988A501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266C-387D-4090-8BB2-FB7DF013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8C52F-9583-4AAE-8C8F-5ADAA38C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A58D55-BB72-4A4F-8A5F-5A765955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426AE-E9D4-4168-AAE5-746E6C74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56A7D1-D127-4017-A439-0529CCC4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DAE544-E1B0-4AD9-98E4-4BEA91DC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2B527-F672-4136-A698-3F4E82C9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17ACB-5E37-4D2C-A189-36C614E2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08F1A5-BF05-4A13-AEE8-C9C86118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04B50B-B3EB-4EBB-97E1-F5383D85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2B9851-12A0-4CFC-A214-50304349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B8AB-A689-4BDE-8D6C-27FADADC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D25D22-E3C5-4319-B9C2-DDE9FBE2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00A473-1E84-4EE3-9125-427CB63D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7DFE42-091D-44D2-B55F-104C2D23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1D0998-2D2D-4197-9530-2744848A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421615-B432-42EA-8681-94F0A9EA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24EBE-B3C9-4B97-86EE-FEA57D0F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702B5A-9C49-47B7-B3B2-A9F39EB8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C149F0-FEFD-48A1-93AA-D532F1D9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BBF02D-CCCB-4DBA-A83A-085C9790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AD5DC9-C673-4BD8-853B-A7764CA7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5C282-C916-43D5-B10D-78733F0C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D4E126-0222-4C79-8555-26D9EE29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4702DF-924B-4C16-9048-38E067FB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506AB-7CEB-4EA1-B080-2EF42252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A2DBDA-5B72-4A48-BC89-D7ADFCC6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2A170B-763E-4CF8-A5BD-C2577FFB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670AB6-9DEF-4B5B-8973-01A62DBF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DD2AC7-BD47-4111-B6BA-AB3C09D1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9FDC82-40BF-453A-B402-6CE7A7E5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9EEB92-C88E-4EA9-B8B8-3CA5BD6C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CD2074-D498-41C4-A423-249108C8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4E84-738E-4F37-B5B9-938B2A51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AB17CD-FD40-452F-A04E-1B8D16CD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61EB05-6863-43F5-9022-93912ACE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23381E-364D-4799-8617-929116B1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88CCB8-84E7-45DE-8D72-68D94959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EA5078-7E63-4327-B32A-C101AD9E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69EB31-9BB2-4655-994C-DED1D75C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AC5976-B222-46B7-AA76-DC7558F6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F93E5F-B257-4C21-AB3D-F5396899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86AB3A-3E3D-458D-850E-78AA0241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3C846D-EBA3-43C2-832E-D924D902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9ACB-3019-48A2-99B6-3226EA92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CFBF60-4E5D-4909-B65B-62D7BD35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3B6AB1-7FA6-4995-AB20-E1465134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7354C9-1FBF-453E-A14B-A605FFF2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BE6526-B96D-4D5F-8D5A-C7DD85D2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C3F81F-52E6-4D2D-9E91-CAFE30CC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0BB88C-F010-41F2-BA14-7F2A9C5B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C322DC-EF77-437A-8BD6-19B9259F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E144A2-795E-4FC2-8910-B108C0C5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927108-76D1-45AF-9B43-06C6E2A9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1E9D97-106E-4348-A0EB-DB803572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BAC5-3DF4-44FE-859A-55A5E1B8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0F112E-67FF-499F-A4E3-294C71D6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A4D5CC-C269-43C0-95C0-B3B1AA1D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79248B-8F11-476C-A611-FA93500A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BC90BD-4E6B-4EEB-9308-E099A28C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236908-8821-4E20-8835-43CD18FC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D869C3-4608-475F-BD89-94E8AFD2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A4AFD6-4C64-4C8B-863E-3EF004B8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23C614-8664-44B9-B70A-02C650DA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E05493-2510-433E-9B13-463E6692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CD1EC6-AE8A-4EA1-9934-C5A3300E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9B87-0C35-4635-9599-68A7C3A2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6164D2-4F27-496A-AC4E-54616A37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402D4D-49EA-4193-8884-E5F5415F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37B27E-B2E1-4581-B230-D82F3EE7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CA67CF-D56A-489D-94D7-5F67EB52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EC3DBD-64E9-40AE-9D5E-5BEA3F4F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073BAB-C797-4741-8DE7-CACD352B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6FE8AD-82CB-4507-93A6-A6F430BE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FA3ED7-0189-4E65-949C-845BF0C7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8B680D-4C06-4489-86FB-8C419271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AF83CE-E1DC-4837-B9D2-8585DF36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CB7-7595-4FE8-8319-182CB948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4520-7ECE-4BAA-A2FB-A0E659E9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F423AE-5C1B-4789-98F0-AD3ACECD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1E8519-3509-43A4-AB59-CC9C71B4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20B558-78C0-410B-98DA-29CF5FBC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ED2921-C97F-45C0-8322-387B2BC9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8F35B4-72BB-4059-8D26-2E79407C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2B2D8F-88DE-4259-B9A7-39339355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33A3F1-FDEE-4A41-8D56-D4058F11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43B204-E48B-4848-83ED-9B338D1D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F1F4CD-07BC-46E9-9B7F-08A30645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4B0EFC-3718-41CD-80EC-E3A980BB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466F-57FC-4876-9EF1-5C0A9259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C5E90C-0B26-4DCF-9C5A-2F6985C6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8FBAC8-4FDD-47B0-9853-64BAACB1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6F3980-7326-4707-B7DA-F6507831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5F6BB3-03A8-456C-B771-DC864DA0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1A5878-8B11-493A-845C-6385D492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079B3F-6D4D-4EF2-A5CA-DF94E744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CCF721-B387-4A89-91B6-9BFA4B9B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B1763B-5FAC-4687-A3EE-5DBA2993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B35717-E3D7-41BD-B714-7C5DDA7C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E4B748-D8FB-4692-BC85-2B98A17A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64C5-5D49-40F4-892E-98A3217D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207D1E-818F-4615-BBDD-9354D262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64D318-762C-4C50-B85C-2D7C2B51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834C8B-BFD1-4AF6-9EED-165CE4DB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7505AA-6B33-432C-AB92-2FDED2B4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6830AC-D48E-419B-99DB-80F55DB5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313DBE-4A71-4FF9-883E-6D925BBA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60BE4F-5A0E-4181-B397-41E11B0A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739C9C-29F4-4469-BEC7-8EE7CFB8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6E06B4-9F96-48BB-B8D2-1355040B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7FD624-F9E3-45B8-8984-50109324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7F4A-525C-4DC1-8AD6-76FC5EA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4F96A9-C99B-4180-9918-63D9D56D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B33439-FB78-4909-B567-DB2D4901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CF3DC7-7F32-44D5-890C-1EEA2EB4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53D4FF-1BC5-49B9-81E1-0224572A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B10BA1-8AAA-4458-9178-8EC77242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8102F9-12FD-4B61-BC2B-7C38AD2B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AF6D8D-4530-4614-955F-92B7372A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89F2CD-E88B-4B52-8503-D6A23AEB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37421D-58CE-4B9F-B2D8-8DB037A7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EAB609-9140-44C9-AC5E-CAE62F46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B79B-42CC-4C94-A875-5BE2388B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31D174-1112-4041-A0C5-724B4FD0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A951EC-72F3-43DB-A539-84BE2E93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3A1F80-8C13-4C57-8847-DA3BD836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B25306-D738-4333-A1E0-88E9E451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1737A4-F3B7-4551-B806-26DE589A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72277F-1C59-4DD7-A9CE-DD6A9F65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25BC8F-C310-43B9-AEBD-4B94BA7A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A99FA5-F042-451D-8B80-432B8373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59913B-CF08-4E01-B525-481E8975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5B045B-35AA-4B7D-AF53-93B4C901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12D9-B722-44E5-9354-7B066E23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9B3D69-41D4-4B9C-8395-583A4EEF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BA8786-F45F-4274-9B5A-20FC8AE8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CFAB68-DE91-4D3E-A0F4-BE30FCFA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3C2698-A835-4EB7-8FD9-88004C4C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E25225-C82D-421D-93B8-A9A275F6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136962-CB92-4D92-B00D-FFCD1981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636C03-9F15-4C4D-AE0F-32BBED20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A92DB6-5428-437C-841A-4E2DA44C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681C29-1580-4721-B6DD-2CEDA473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34A7E1-DAF1-46C0-8615-F737D574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CF3C6-E40C-4D09-8ACF-553AE5DC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46F50A-5D0F-49C2-AD46-9024ECC3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172FFC-9DC8-40DF-AD27-02F06CB1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6411F0-87C3-4502-AD67-4ACDE496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9F24E0-1D09-4ABD-8FF2-37E6E9A2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0ED758-CE0A-491A-BDFB-0309E9E3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3CD099-8864-4B3F-BEBD-5E270C42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5D4D92-BF9A-4338-A79E-131BF47A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870D4A-0D1A-4633-BE91-7BA36D01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970A59-FF70-446A-8E4F-AB3D355C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F775C1-F424-4F05-8AEB-10BBCBC8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E59EB-3C3F-4A40-A12E-DBC4001B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D7F47F-6B1F-4E80-BD92-0ACEEC04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EFD194-86AF-4FB3-AA10-32A93595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8C0F34-98B8-4A56-AF9A-ED5F0BF3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43EF-B060-4A4B-BE52-BE72CD91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5CD62-87E0-431D-8C44-5343AB05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6EB-F29F-46DC-897A-60679600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A68C-F6F4-4425-A8DC-CB39A48F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CCA84-6DBF-4FC8-9E77-1DFE8F1A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A1482-A426-43CA-B6B2-04CE3AB0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4C377-B229-4AFC-9882-FEFF4B5C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265F6-DF0F-41C0-8441-5BB23BA1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AD0B5-4597-4FA5-9029-9A71BA68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85F43-3156-4E7E-B97A-2749C6CB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697D6-FB9A-47ED-B4DC-7F1D906C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88457-BE63-4CB3-85C6-2CD2A2ED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3D23B-ECCC-44CC-B2FE-D570981F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208-4D0F-48BB-A044-259A1F98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0637A-5765-4CD9-9FAD-EB57B1AC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2F26B-12E3-4896-B464-4B08DDD3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2D6B5-4A11-4597-B6CA-AE62807A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4A374-4AD3-4E47-B9C4-7261D701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0C364-0CA5-435B-83F1-48D35449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5C824-80F2-4E3C-A39F-644F3122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69219-DD8A-40BB-AD4C-47174450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1B0E5-9804-4756-985D-2EB30071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F4C07-AB7B-4506-9934-34C8AF03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77B1-21FB-4666-A15A-ADB60864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179-1DFE-4617-9D7A-ACE2E298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4EAFE-90E1-4835-9D05-EE8C3414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5D288-6FFA-432A-A4C4-9EF7DE29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B8345-C4C7-455F-96A3-075B2D14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6C708-DBCA-404B-82DD-CDC7A128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B4336-461B-4124-9B12-A1985CE8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7E8BF-CDA7-4509-B2A3-1E5E86CB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B3B4B-0B12-479B-A098-5D8A7FD4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A0EDE-9750-4503-A72F-3164FE84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FD843-F11B-4C7D-8BE2-FC791E9E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76B08-61C8-4591-9301-DC3F6820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58C-4402-4E75-AB80-3745C06D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92F68-9DD7-4F13-9B3A-9B34F9C3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B2A39-8250-4661-B804-037140E0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2225F-9F36-4C7C-B12B-DEC81674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4BBDC-F796-4FB2-929B-3C6F70FA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E9920-2F9D-4A87-962E-EA806065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05FF4-E18E-451B-B624-734F7D39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72C21-2ABF-4DB3-8124-0FFDAD11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1AFE1-4050-42FB-8A63-196E0125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949CF-39E6-4732-8722-AD7FBEF1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180B1-3E4A-4363-9B92-B01693C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548-FAAD-448F-8143-F8E366E8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77C4B-EFE3-4A31-AC88-BAFB9BA3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5CE61-6D66-496F-90CD-B1612022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A27E6-050B-425A-B69E-08860FD1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3A47B-B161-491F-8A5B-84E7E9DD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4AF46-6D80-4B3E-8BB1-667E56CD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99913-89A8-4ABA-A782-D6D41F23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3BB08-378B-4BD7-A076-F1101F70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A3DDC-2C18-44A5-B44D-C1ED35EC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E4380-4E9E-4664-97C0-D3D002F5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BED1A-2F91-45DE-AAC8-BB3EBFB8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5EF-38BE-4E0A-B715-48EB3035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4EDCA-A1BF-47CE-BA62-FC858D0C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4E822-F08D-4132-9EB6-AFE2BF18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45981-0422-49D8-93E8-9DCB0AF1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FB61B-507C-4EE1-870C-81DE45ED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A0B9-DAE2-4227-8284-AB7C53F9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25A08-BABC-4D1B-A545-58FD0046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0AB8B-D3A8-4EEE-8D6F-2B1D70D8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D44AA-A55C-48AC-89C1-7A09CA5A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35AB9-C2B7-4720-A4B4-D59AB371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27AC6-A3CE-4738-AABA-C39C5D0D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00B5-ADC3-4DDA-8037-34B029BFD0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1964-ECCE-4D16-A82C-C8E66E9396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1443-89B4-4083-8D29-521D024634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9E36-6518-4360-A643-8CFA00B554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4323-8BF4-4C89-97E2-1181CC4F1E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2F00-6F31-4058-96F6-96C4FD80A1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8747-E538-410D-BC46-E8958DA521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DA31-6B03-4BB7-9553-FE3D79BD86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1919-BCA2-4487-8909-97C87F4461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D512-BC0C-4FE5-9CCB-3237B611D9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B90F-9BBA-4827-A05C-2254484C2A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EC8D-D88E-44EE-BCFC-B89555CDB4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E630-DBC2-46A8-9759-12095C07F9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DB5D-97B6-4182-B5A7-0345FDA7C0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666F-51E8-480A-8A8C-0BA6D63AC8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8B2C-22B5-411A-B29F-0CA90546A2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4CCB-0506-44F8-81B9-023668DBB9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BE38-D4A2-4161-926A-1DC8D88351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CECB-7501-4425-B0DC-C313BD0818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3BFC-0552-46A7-B84D-17B1355D92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90CF-2E35-4944-A4FB-7DECE3C402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455F-0605-4002-A3E9-6FD831D2E3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273D-EE96-45F5-B51F-22AD518A46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7ADC-5564-4353-BF68-600C9F0C68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9A7A-B3E7-429E-A8C4-7051537A63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C6A0-996D-4AD1-88F0-5BC87FDDBE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5B94-90FA-4ED6-B3B7-83F03977E4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3FA0-A0D8-41F3-955A-C00D3F5074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BD92-F469-431B-8055-CE069F52DC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AD40-5BB5-42C0-9083-41A86F1F4A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4B8E-2DEB-4AA8-9A4A-13157663A7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14B3-C822-4197-9A23-9BC57D2126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F675-ACCA-4BE3-9502-3C9156C626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FA3D-F4FC-43AA-879A-7120D84174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CEFD-D465-4195-9644-434B5B2DFE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FECB-4DFB-44CB-8575-5ACA3390F1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7E02-BCD3-4444-A158-29BEDBCA02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2598-F03D-4279-9D94-357FE2F9E6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9731-4F56-40B7-A770-D9B26EE3FD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FF3E-D7AD-4E6F-B282-A6730EAA59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1CCB-9A6F-44A7-A21A-369F384020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FEFD-8CE5-4A02-A9BA-3DCAE1804E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0A06-E3FD-4356-9C2C-3ABD30B65B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E4D0-AEF2-4D37-8F22-F02C762E14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C53E-FAD6-41AC-ACE6-D2CC27488D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331F-C11D-4125-9472-D34DAADC2A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9FD8-2A77-46F0-BA2A-B43B05A8B9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AD36-FE3F-4559-9115-7F1F60C225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E62E-8678-4436-B12D-FB6C1EA368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0C6A-3A0C-4EAD-9F7C-29C42F0860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392200" y="950760"/>
            <a:ext cx="3953160" cy="208620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730600" y="3892680"/>
            <a:ext cx="3047760" cy="209520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3851280" y="5394240"/>
            <a:ext cx="12859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7"/>
          <p:cNvSpPr/>
          <p:nvPr/>
        </p:nvSpPr>
        <p:spPr>
          <a:xfrm>
            <a:off x="2711520" y="5681520"/>
            <a:ext cx="12859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图片 132097" descr=""/>
          <p:cNvPicPr/>
          <p:nvPr/>
        </p:nvPicPr>
        <p:blipFill>
          <a:blip r:embed="rId1"/>
          <a:stretch/>
        </p:blipFill>
        <p:spPr>
          <a:xfrm>
            <a:off x="166680" y="884160"/>
            <a:ext cx="8048520" cy="3133800"/>
          </a:xfrm>
          <a:prstGeom prst="rect">
            <a:avLst/>
          </a:prstGeom>
          <a:ln w="0">
            <a:noFill/>
          </a:ln>
        </p:spPr>
      </p:pic>
      <p:sp>
        <p:nvSpPr>
          <p:cNvPr id="1406" name="矩形 132098"/>
          <p:cNvSpPr/>
          <p:nvPr/>
        </p:nvSpPr>
        <p:spPr>
          <a:xfrm>
            <a:off x="728640" y="2959200"/>
            <a:ext cx="6175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132099"/>
          <p:cNvSpPr/>
          <p:nvPr/>
        </p:nvSpPr>
        <p:spPr>
          <a:xfrm>
            <a:off x="728640" y="3483000"/>
            <a:ext cx="6175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图片 131073" descr=""/>
          <p:cNvPicPr/>
          <p:nvPr/>
        </p:nvPicPr>
        <p:blipFill>
          <a:blip r:embed="rId1"/>
          <a:stretch/>
        </p:blipFill>
        <p:spPr>
          <a:xfrm>
            <a:off x="106200" y="905040"/>
            <a:ext cx="8143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图片 130049" descr=""/>
          <p:cNvPicPr/>
          <p:nvPr/>
        </p:nvPicPr>
        <p:blipFill>
          <a:blip r:embed="rId1"/>
          <a:stretch/>
        </p:blipFill>
        <p:spPr>
          <a:xfrm>
            <a:off x="663480" y="1042920"/>
            <a:ext cx="7715520" cy="2409840"/>
          </a:xfrm>
          <a:prstGeom prst="rect">
            <a:avLst/>
          </a:prstGeom>
          <a:ln w="0">
            <a:noFill/>
          </a:ln>
        </p:spPr>
      </p:pic>
      <p:sp>
        <p:nvSpPr>
          <p:cNvPr id="1410" name="矩形 130050"/>
          <p:cNvSpPr/>
          <p:nvPr/>
        </p:nvSpPr>
        <p:spPr>
          <a:xfrm>
            <a:off x="841320" y="966960"/>
            <a:ext cx="7809120" cy="83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130051"/>
          <p:cNvSpPr/>
          <p:nvPr/>
        </p:nvSpPr>
        <p:spPr>
          <a:xfrm>
            <a:off x="841320" y="1881360"/>
            <a:ext cx="764532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130052"/>
          <p:cNvSpPr/>
          <p:nvPr/>
        </p:nvSpPr>
        <p:spPr>
          <a:xfrm>
            <a:off x="717480" y="2425680"/>
            <a:ext cx="76453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矩形 130053"/>
          <p:cNvSpPr/>
          <p:nvPr/>
        </p:nvSpPr>
        <p:spPr>
          <a:xfrm>
            <a:off x="706320" y="2928960"/>
            <a:ext cx="7645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图片 129025" descr=""/>
          <p:cNvPicPr/>
          <p:nvPr/>
        </p:nvPicPr>
        <p:blipFill>
          <a:blip r:embed="rId1"/>
          <a:stretch/>
        </p:blipFill>
        <p:spPr>
          <a:xfrm>
            <a:off x="287280" y="920880"/>
            <a:ext cx="8163000" cy="4228920"/>
          </a:xfrm>
          <a:prstGeom prst="rect">
            <a:avLst/>
          </a:prstGeom>
          <a:ln w="0">
            <a:noFill/>
          </a:ln>
        </p:spPr>
      </p:pic>
      <p:sp>
        <p:nvSpPr>
          <p:cNvPr id="1415" name="矩形 129026"/>
          <p:cNvSpPr/>
          <p:nvPr/>
        </p:nvSpPr>
        <p:spPr>
          <a:xfrm>
            <a:off x="4202280" y="26416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矩形 129027"/>
          <p:cNvSpPr/>
          <p:nvPr/>
        </p:nvSpPr>
        <p:spPr>
          <a:xfrm>
            <a:off x="7581960" y="262080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129028"/>
          <p:cNvSpPr/>
          <p:nvPr/>
        </p:nvSpPr>
        <p:spPr>
          <a:xfrm>
            <a:off x="4807080" y="31654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129029"/>
          <p:cNvSpPr/>
          <p:nvPr/>
        </p:nvSpPr>
        <p:spPr>
          <a:xfrm>
            <a:off x="2793960" y="36482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矩形 129030"/>
          <p:cNvSpPr/>
          <p:nvPr/>
        </p:nvSpPr>
        <p:spPr>
          <a:xfrm>
            <a:off x="1725480" y="46864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图片 128001" descr=""/>
          <p:cNvPicPr/>
          <p:nvPr/>
        </p:nvPicPr>
        <p:blipFill>
          <a:blip r:embed="rId1"/>
          <a:stretch/>
        </p:blipFill>
        <p:spPr>
          <a:xfrm>
            <a:off x="601560" y="982800"/>
            <a:ext cx="7610400" cy="3495600"/>
          </a:xfrm>
          <a:prstGeom prst="rect">
            <a:avLst/>
          </a:prstGeom>
          <a:ln w="0">
            <a:noFill/>
          </a:ln>
        </p:spPr>
      </p:pic>
      <p:sp>
        <p:nvSpPr>
          <p:cNvPr id="1421" name="矩形 128002"/>
          <p:cNvSpPr/>
          <p:nvPr/>
        </p:nvSpPr>
        <p:spPr>
          <a:xfrm>
            <a:off x="717480" y="1994040"/>
            <a:ext cx="751068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矩形 128003"/>
          <p:cNvSpPr/>
          <p:nvPr/>
        </p:nvSpPr>
        <p:spPr>
          <a:xfrm>
            <a:off x="696960" y="2517840"/>
            <a:ext cx="751032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矩形 128004"/>
          <p:cNvSpPr/>
          <p:nvPr/>
        </p:nvSpPr>
        <p:spPr>
          <a:xfrm>
            <a:off x="790560" y="3021120"/>
            <a:ext cx="751032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矩形 128005"/>
          <p:cNvSpPr/>
          <p:nvPr/>
        </p:nvSpPr>
        <p:spPr>
          <a:xfrm>
            <a:off x="749160" y="3494160"/>
            <a:ext cx="751068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矩形 128006"/>
          <p:cNvSpPr/>
          <p:nvPr/>
        </p:nvSpPr>
        <p:spPr>
          <a:xfrm>
            <a:off x="728640" y="4038480"/>
            <a:ext cx="751032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图片 140289" descr=""/>
          <p:cNvPicPr/>
          <p:nvPr/>
        </p:nvPicPr>
        <p:blipFill>
          <a:blip r:embed="rId1"/>
          <a:stretch/>
        </p:blipFill>
        <p:spPr>
          <a:xfrm>
            <a:off x="193680" y="1114560"/>
            <a:ext cx="8553600" cy="3409920"/>
          </a:xfrm>
          <a:prstGeom prst="rect">
            <a:avLst/>
          </a:prstGeom>
          <a:ln w="0">
            <a:noFill/>
          </a:ln>
        </p:spPr>
      </p:pic>
      <p:sp>
        <p:nvSpPr>
          <p:cNvPr id="1336" name="矩形 140290"/>
          <p:cNvSpPr/>
          <p:nvPr/>
        </p:nvSpPr>
        <p:spPr>
          <a:xfrm>
            <a:off x="1459080" y="1900080"/>
            <a:ext cx="5349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40291"/>
          <p:cNvSpPr/>
          <p:nvPr/>
        </p:nvSpPr>
        <p:spPr>
          <a:xfrm>
            <a:off x="3051000" y="1900080"/>
            <a:ext cx="5353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2"/>
          <p:cNvSpPr/>
          <p:nvPr/>
        </p:nvSpPr>
        <p:spPr>
          <a:xfrm>
            <a:off x="7674120" y="1900080"/>
            <a:ext cx="5349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3"/>
          <p:cNvSpPr/>
          <p:nvPr/>
        </p:nvSpPr>
        <p:spPr>
          <a:xfrm>
            <a:off x="2054160" y="2300400"/>
            <a:ext cx="534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4"/>
          <p:cNvSpPr/>
          <p:nvPr/>
        </p:nvSpPr>
        <p:spPr>
          <a:xfrm>
            <a:off x="3871800" y="2300400"/>
            <a:ext cx="534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5"/>
          <p:cNvSpPr/>
          <p:nvPr/>
        </p:nvSpPr>
        <p:spPr>
          <a:xfrm>
            <a:off x="2946240" y="2700360"/>
            <a:ext cx="5353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6"/>
          <p:cNvSpPr/>
          <p:nvPr/>
        </p:nvSpPr>
        <p:spPr>
          <a:xfrm>
            <a:off x="5967360" y="2700360"/>
            <a:ext cx="534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7"/>
          <p:cNvSpPr/>
          <p:nvPr/>
        </p:nvSpPr>
        <p:spPr>
          <a:xfrm>
            <a:off x="685800" y="3100320"/>
            <a:ext cx="534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8"/>
          <p:cNvSpPr/>
          <p:nvPr/>
        </p:nvSpPr>
        <p:spPr>
          <a:xfrm>
            <a:off x="4384800" y="3100320"/>
            <a:ext cx="38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0299"/>
          <p:cNvSpPr/>
          <p:nvPr/>
        </p:nvSpPr>
        <p:spPr>
          <a:xfrm>
            <a:off x="1898640" y="3511440"/>
            <a:ext cx="123336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40300"/>
          <p:cNvSpPr/>
          <p:nvPr/>
        </p:nvSpPr>
        <p:spPr>
          <a:xfrm>
            <a:off x="4199040" y="3511440"/>
            <a:ext cx="209700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40301"/>
          <p:cNvSpPr/>
          <p:nvPr/>
        </p:nvSpPr>
        <p:spPr>
          <a:xfrm>
            <a:off x="7210440" y="3511440"/>
            <a:ext cx="51444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40302"/>
          <p:cNvSpPr/>
          <p:nvPr/>
        </p:nvSpPr>
        <p:spPr>
          <a:xfrm>
            <a:off x="4067280" y="4170240"/>
            <a:ext cx="5349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图片 139265" descr=""/>
          <p:cNvPicPr/>
          <p:nvPr/>
        </p:nvPicPr>
        <p:blipFill>
          <a:blip r:embed="rId1"/>
          <a:stretch/>
        </p:blipFill>
        <p:spPr>
          <a:xfrm>
            <a:off x="293760" y="760320"/>
            <a:ext cx="8582040" cy="5438880"/>
          </a:xfrm>
          <a:prstGeom prst="rect">
            <a:avLst/>
          </a:prstGeom>
          <a:ln w="0">
            <a:noFill/>
          </a:ln>
        </p:spPr>
      </p:pic>
      <p:sp>
        <p:nvSpPr>
          <p:cNvPr id="1350" name="矩形 139266"/>
          <p:cNvSpPr/>
          <p:nvPr/>
        </p:nvSpPr>
        <p:spPr>
          <a:xfrm>
            <a:off x="8280360" y="15001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9267"/>
          <p:cNvSpPr/>
          <p:nvPr/>
        </p:nvSpPr>
        <p:spPr>
          <a:xfrm>
            <a:off x="8259840" y="27129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9268"/>
          <p:cNvSpPr/>
          <p:nvPr/>
        </p:nvSpPr>
        <p:spPr>
          <a:xfrm>
            <a:off x="8259840" y="3483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9269"/>
          <p:cNvSpPr/>
          <p:nvPr/>
        </p:nvSpPr>
        <p:spPr>
          <a:xfrm>
            <a:off x="3092400" y="4264200"/>
            <a:ext cx="442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9270"/>
          <p:cNvSpPr/>
          <p:nvPr/>
        </p:nvSpPr>
        <p:spPr>
          <a:xfrm>
            <a:off x="4737240" y="4264200"/>
            <a:ext cx="442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9271"/>
          <p:cNvSpPr/>
          <p:nvPr/>
        </p:nvSpPr>
        <p:spPr>
          <a:xfrm>
            <a:off x="6873840" y="4264200"/>
            <a:ext cx="442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9272"/>
          <p:cNvSpPr/>
          <p:nvPr/>
        </p:nvSpPr>
        <p:spPr>
          <a:xfrm>
            <a:off x="1511280" y="4654440"/>
            <a:ext cx="442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9273"/>
          <p:cNvSpPr/>
          <p:nvPr/>
        </p:nvSpPr>
        <p:spPr>
          <a:xfrm>
            <a:off x="3011400" y="4654440"/>
            <a:ext cx="443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9274"/>
          <p:cNvSpPr/>
          <p:nvPr/>
        </p:nvSpPr>
        <p:spPr>
          <a:xfrm>
            <a:off x="5219640" y="4654440"/>
            <a:ext cx="587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9275"/>
          <p:cNvSpPr/>
          <p:nvPr/>
        </p:nvSpPr>
        <p:spPr>
          <a:xfrm>
            <a:off x="2508120" y="5045040"/>
            <a:ext cx="443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9276"/>
          <p:cNvSpPr/>
          <p:nvPr/>
        </p:nvSpPr>
        <p:spPr>
          <a:xfrm>
            <a:off x="2825640" y="5454720"/>
            <a:ext cx="443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9277"/>
          <p:cNvSpPr/>
          <p:nvPr/>
        </p:nvSpPr>
        <p:spPr>
          <a:xfrm>
            <a:off x="6248520" y="5454720"/>
            <a:ext cx="442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9278"/>
          <p:cNvSpPr/>
          <p:nvPr/>
        </p:nvSpPr>
        <p:spPr>
          <a:xfrm>
            <a:off x="1152360" y="5854680"/>
            <a:ext cx="443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图片 138241" descr=""/>
          <p:cNvPicPr/>
          <p:nvPr/>
        </p:nvPicPr>
        <p:blipFill>
          <a:blip r:embed="rId1"/>
          <a:stretch/>
        </p:blipFill>
        <p:spPr>
          <a:xfrm>
            <a:off x="351000" y="820800"/>
            <a:ext cx="7781760" cy="5038560"/>
          </a:xfrm>
          <a:prstGeom prst="rect">
            <a:avLst/>
          </a:prstGeom>
          <a:ln w="0">
            <a:noFill/>
          </a:ln>
        </p:spPr>
      </p:pic>
      <p:sp>
        <p:nvSpPr>
          <p:cNvPr id="1364" name="矩形 138242"/>
          <p:cNvSpPr/>
          <p:nvPr/>
        </p:nvSpPr>
        <p:spPr>
          <a:xfrm>
            <a:off x="698400" y="1562040"/>
            <a:ext cx="17985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8243"/>
          <p:cNvSpPr/>
          <p:nvPr/>
        </p:nvSpPr>
        <p:spPr>
          <a:xfrm>
            <a:off x="4130640" y="1573200"/>
            <a:ext cx="17985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8244"/>
          <p:cNvSpPr/>
          <p:nvPr/>
        </p:nvSpPr>
        <p:spPr>
          <a:xfrm>
            <a:off x="585720" y="3176640"/>
            <a:ext cx="17985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8245"/>
          <p:cNvSpPr/>
          <p:nvPr/>
        </p:nvSpPr>
        <p:spPr>
          <a:xfrm>
            <a:off x="3997440" y="3052800"/>
            <a:ext cx="4182840" cy="5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8246"/>
          <p:cNvSpPr/>
          <p:nvPr/>
        </p:nvSpPr>
        <p:spPr>
          <a:xfrm>
            <a:off x="4932360" y="3762360"/>
            <a:ext cx="150012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8247"/>
          <p:cNvSpPr/>
          <p:nvPr/>
        </p:nvSpPr>
        <p:spPr>
          <a:xfrm>
            <a:off x="636480" y="5211720"/>
            <a:ext cx="17989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8248"/>
          <p:cNvSpPr/>
          <p:nvPr/>
        </p:nvSpPr>
        <p:spPr>
          <a:xfrm>
            <a:off x="4211640" y="5202360"/>
            <a:ext cx="2219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8249"/>
          <p:cNvSpPr/>
          <p:nvPr/>
        </p:nvSpPr>
        <p:spPr>
          <a:xfrm>
            <a:off x="4314960" y="5632560"/>
            <a:ext cx="2219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图片 137217" descr=""/>
          <p:cNvPicPr/>
          <p:nvPr/>
        </p:nvPicPr>
        <p:blipFill>
          <a:blip r:embed="rId1"/>
          <a:stretch/>
        </p:blipFill>
        <p:spPr>
          <a:xfrm>
            <a:off x="250920" y="965160"/>
            <a:ext cx="8057880" cy="5715000"/>
          </a:xfrm>
          <a:prstGeom prst="rect">
            <a:avLst/>
          </a:prstGeom>
          <a:ln w="0">
            <a:noFill/>
          </a:ln>
        </p:spPr>
      </p:pic>
      <p:sp>
        <p:nvSpPr>
          <p:cNvPr id="1373" name="矩形 137218"/>
          <p:cNvSpPr/>
          <p:nvPr/>
        </p:nvSpPr>
        <p:spPr>
          <a:xfrm>
            <a:off x="7632720" y="21272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7219"/>
          <p:cNvSpPr/>
          <p:nvPr/>
        </p:nvSpPr>
        <p:spPr>
          <a:xfrm>
            <a:off x="7601040" y="5219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图片 136193" descr=""/>
          <p:cNvPicPr/>
          <p:nvPr/>
        </p:nvPicPr>
        <p:blipFill>
          <a:blip r:embed="rId1"/>
          <a:stretch/>
        </p:blipFill>
        <p:spPr>
          <a:xfrm>
            <a:off x="217440" y="930240"/>
            <a:ext cx="8048520" cy="5657760"/>
          </a:xfrm>
          <a:prstGeom prst="rect">
            <a:avLst/>
          </a:prstGeom>
          <a:ln w="0">
            <a:noFill/>
          </a:ln>
        </p:spPr>
      </p:pic>
      <p:sp>
        <p:nvSpPr>
          <p:cNvPr id="1376" name="矩形 136194"/>
          <p:cNvSpPr/>
          <p:nvPr/>
        </p:nvSpPr>
        <p:spPr>
          <a:xfrm>
            <a:off x="7499520" y="20350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6195"/>
          <p:cNvSpPr/>
          <p:nvPr/>
        </p:nvSpPr>
        <p:spPr>
          <a:xfrm>
            <a:off x="6810480" y="4532400"/>
            <a:ext cx="9572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6196"/>
          <p:cNvSpPr/>
          <p:nvPr/>
        </p:nvSpPr>
        <p:spPr>
          <a:xfrm>
            <a:off x="7253280" y="5065560"/>
            <a:ext cx="9572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6197"/>
          <p:cNvSpPr/>
          <p:nvPr/>
        </p:nvSpPr>
        <p:spPr>
          <a:xfrm>
            <a:off x="760320" y="5600880"/>
            <a:ext cx="957240" cy="37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6198"/>
          <p:cNvSpPr/>
          <p:nvPr/>
        </p:nvSpPr>
        <p:spPr>
          <a:xfrm>
            <a:off x="1130400" y="6135840"/>
            <a:ext cx="9572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1" name="图片 135169" descr=""/>
          <p:cNvPicPr/>
          <p:nvPr/>
        </p:nvPicPr>
        <p:blipFill>
          <a:blip r:embed="rId1"/>
          <a:stretch/>
        </p:blipFill>
        <p:spPr>
          <a:xfrm>
            <a:off x="181080" y="831960"/>
            <a:ext cx="8096040" cy="3009960"/>
          </a:xfrm>
          <a:prstGeom prst="rect">
            <a:avLst/>
          </a:prstGeom>
          <a:ln w="0">
            <a:noFill/>
          </a:ln>
        </p:spPr>
      </p:pic>
      <p:sp>
        <p:nvSpPr>
          <p:cNvPr id="1382" name="矩形 135170"/>
          <p:cNvSpPr/>
          <p:nvPr/>
        </p:nvSpPr>
        <p:spPr>
          <a:xfrm>
            <a:off x="3359160" y="1973160"/>
            <a:ext cx="534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5171"/>
          <p:cNvSpPr/>
          <p:nvPr/>
        </p:nvSpPr>
        <p:spPr>
          <a:xfrm>
            <a:off x="4633920" y="1973160"/>
            <a:ext cx="534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5172"/>
          <p:cNvSpPr/>
          <p:nvPr/>
        </p:nvSpPr>
        <p:spPr>
          <a:xfrm>
            <a:off x="3205080" y="2517840"/>
            <a:ext cx="56700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5173"/>
          <p:cNvSpPr/>
          <p:nvPr/>
        </p:nvSpPr>
        <p:spPr>
          <a:xfrm>
            <a:off x="4592520" y="2517840"/>
            <a:ext cx="56700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5175"/>
          <p:cNvSpPr/>
          <p:nvPr/>
        </p:nvSpPr>
        <p:spPr>
          <a:xfrm>
            <a:off x="3719520" y="3411360"/>
            <a:ext cx="5349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5176"/>
          <p:cNvSpPr/>
          <p:nvPr/>
        </p:nvSpPr>
        <p:spPr>
          <a:xfrm>
            <a:off x="5097600" y="3411360"/>
            <a:ext cx="6588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图片 134146" descr=""/>
          <p:cNvPicPr/>
          <p:nvPr/>
        </p:nvPicPr>
        <p:blipFill>
          <a:blip r:embed="rId1"/>
          <a:stretch/>
        </p:blipFill>
        <p:spPr>
          <a:xfrm>
            <a:off x="95400" y="844560"/>
            <a:ext cx="6895800" cy="278136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134147" descr=""/>
          <p:cNvPicPr/>
          <p:nvPr/>
        </p:nvPicPr>
        <p:blipFill>
          <a:blip r:embed="rId2"/>
          <a:stretch/>
        </p:blipFill>
        <p:spPr>
          <a:xfrm>
            <a:off x="644400" y="4027320"/>
            <a:ext cx="7220160" cy="2638440"/>
          </a:xfrm>
          <a:prstGeom prst="rect">
            <a:avLst/>
          </a:prstGeom>
          <a:ln w="0">
            <a:noFill/>
          </a:ln>
        </p:spPr>
      </p:pic>
      <p:sp>
        <p:nvSpPr>
          <p:cNvPr id="1390" name="矩形 134148"/>
          <p:cNvSpPr/>
          <p:nvPr/>
        </p:nvSpPr>
        <p:spPr>
          <a:xfrm>
            <a:off x="657360" y="2322360"/>
            <a:ext cx="25686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34149"/>
          <p:cNvSpPr/>
          <p:nvPr/>
        </p:nvSpPr>
        <p:spPr>
          <a:xfrm>
            <a:off x="1890720" y="3246480"/>
            <a:ext cx="10270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4150"/>
          <p:cNvSpPr/>
          <p:nvPr/>
        </p:nvSpPr>
        <p:spPr>
          <a:xfrm>
            <a:off x="4192560" y="2384280"/>
            <a:ext cx="25686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34151"/>
          <p:cNvSpPr/>
          <p:nvPr/>
        </p:nvSpPr>
        <p:spPr>
          <a:xfrm>
            <a:off x="658800" y="5106960"/>
            <a:ext cx="29592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34152"/>
          <p:cNvSpPr/>
          <p:nvPr/>
        </p:nvSpPr>
        <p:spPr>
          <a:xfrm>
            <a:off x="1254240" y="6081840"/>
            <a:ext cx="19731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134153"/>
          <p:cNvSpPr/>
          <p:nvPr/>
        </p:nvSpPr>
        <p:spPr>
          <a:xfrm>
            <a:off x="3741840" y="4951440"/>
            <a:ext cx="394632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34154"/>
          <p:cNvSpPr/>
          <p:nvPr/>
        </p:nvSpPr>
        <p:spPr>
          <a:xfrm>
            <a:off x="5189400" y="5899320"/>
            <a:ext cx="1675080" cy="73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图片 133121" descr=""/>
          <p:cNvPicPr/>
          <p:nvPr/>
        </p:nvPicPr>
        <p:blipFill>
          <a:blip r:embed="rId1"/>
          <a:stretch/>
        </p:blipFill>
        <p:spPr>
          <a:xfrm>
            <a:off x="757080" y="884160"/>
            <a:ext cx="3667320" cy="100008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33122" descr=""/>
          <p:cNvPicPr/>
          <p:nvPr/>
        </p:nvPicPr>
        <p:blipFill>
          <a:blip r:embed="rId2"/>
          <a:stretch/>
        </p:blipFill>
        <p:spPr>
          <a:xfrm>
            <a:off x="111240" y="2898720"/>
            <a:ext cx="8134200" cy="3524400"/>
          </a:xfrm>
          <a:prstGeom prst="rect">
            <a:avLst/>
          </a:prstGeom>
          <a:ln w="0">
            <a:noFill/>
          </a:ln>
        </p:spPr>
      </p:pic>
      <p:sp>
        <p:nvSpPr>
          <p:cNvPr id="1399" name="矩形 133123"/>
          <p:cNvSpPr/>
          <p:nvPr/>
        </p:nvSpPr>
        <p:spPr>
          <a:xfrm>
            <a:off x="738360" y="1417680"/>
            <a:ext cx="34844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33124"/>
          <p:cNvSpPr/>
          <p:nvPr/>
        </p:nvSpPr>
        <p:spPr>
          <a:xfrm>
            <a:off x="625320" y="3894120"/>
            <a:ext cx="58485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33125"/>
          <p:cNvSpPr/>
          <p:nvPr/>
        </p:nvSpPr>
        <p:spPr>
          <a:xfrm>
            <a:off x="574560" y="4387680"/>
            <a:ext cx="58485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133126"/>
          <p:cNvSpPr/>
          <p:nvPr/>
        </p:nvSpPr>
        <p:spPr>
          <a:xfrm>
            <a:off x="574560" y="4932360"/>
            <a:ext cx="58485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33127"/>
          <p:cNvSpPr/>
          <p:nvPr/>
        </p:nvSpPr>
        <p:spPr>
          <a:xfrm>
            <a:off x="615960" y="5425920"/>
            <a:ext cx="58482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33128"/>
          <p:cNvSpPr/>
          <p:nvPr/>
        </p:nvSpPr>
        <p:spPr>
          <a:xfrm>
            <a:off x="657360" y="6032520"/>
            <a:ext cx="58482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9:08:15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